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5918-449C-4AFB-9A37-B613C6573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7833-3E46-4757-A2FF-AC3D9718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1E08-FD74-43C5-8472-2A34F56F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8426-4886-4518-9778-27F24237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2646-6992-4C24-ACF3-22884790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8939-DF60-4F23-8419-0F0EF119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6565-4459-4FB3-A1B0-3F23EF79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9BF0-5AE7-46CE-A133-8171726F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9240-9B5C-429E-A0E0-E30C2169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26E1-7CF6-4568-9E7D-543B8236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9A66-3117-4A30-8CDF-40925654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BE07-D82A-4574-A217-931DEC78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26D1-80A1-4EA7-A265-58F76BCB5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hyperlink" Target="http://www.phschool.com/atschool/academy123/html/bbapplet_wl-problem-430969.html" TargetMode="External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4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2.9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one-step inequa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7924680" cy="838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04920" y="4114800"/>
            <a:ext cx="7848360" cy="939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10280" y="5257800"/>
            <a:ext cx="1255680" cy="1217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7467480" y="2819520"/>
            <a:ext cx="125568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4078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14400" y="1905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X &gt;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1828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- 7 &gt;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3048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- 4 &lt;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38680" y="3048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m &gt;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4114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t &lt; -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15000" y="41148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35 &lt;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019920" y="327636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583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8600" y="46483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omework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27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80880" y="3352680"/>
            <a:ext cx="2667240" cy="6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534520" cy="1122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28600" y="3505320"/>
            <a:ext cx="853452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14400" y="762120"/>
            <a:ext cx="7234200" cy="5287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666880" y="1752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t &lt;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23623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- 10 &lt;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2590920"/>
            <a:ext cx="1526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36720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37 + s &lt; 65,   s &lt;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4724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m &gt; 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5334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t &gt; - 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895480" y="5562360"/>
            <a:ext cx="1526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9144000" cy="2759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8600" y="46483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ome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of the day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8915400" cy="2614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52280" y="51814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omework to go o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28195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3581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-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53080" y="2895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2.1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1112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219320" y="4343400"/>
            <a:ext cx="7696080" cy="623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0" y="4267080"/>
            <a:ext cx="990720" cy="731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7086600" y="3048120"/>
            <a:ext cx="114300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8686800" cy="1095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43000" y="4343400"/>
            <a:ext cx="8001000" cy="774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0" y="4267080"/>
            <a:ext cx="990720" cy="731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6781680" y="2590920"/>
            <a:ext cx="125568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15400" cy="1643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28600" y="3200400"/>
            <a:ext cx="8229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12:25:49Z</dcterms:created>
  <dc:creator>Susannah Graham</dc:creator>
  <dc:description/>
  <dc:language>en-US</dc:language>
  <cp:lastModifiedBy>grahams</cp:lastModifiedBy>
  <dcterms:modified xsi:type="dcterms:W3CDTF">2011-10-21T13:03:32Z</dcterms:modified>
  <cp:revision>13</cp:revision>
  <dc:subject/>
  <dc:title>Problem of the day!!!</dc:title>
</cp:coreProperties>
</file>